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6.wmf" ContentType="image/x-wmf"/>
  <Override PartName="/ppt/media/image8.png" ContentType="image/png"/>
  <Override PartName="/ppt/media/image13.png" ContentType="image/png"/>
  <Override PartName="/ppt/media/image33.wmf" ContentType="image/x-wmf"/>
  <Override PartName="/ppt/media/image17.wmf" ContentType="image/x-wmf"/>
  <Override PartName="/ppt/media/image9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11.png" ContentType="image/png"/>
  <Override PartName="/ppt/media/image32.wmf" ContentType="image/x-wmf"/>
  <Override PartName="/ppt/media/image12.png" ContentType="image/png"/>
  <Override PartName="/ppt/media/image34.wmf" ContentType="image/x-wmf"/>
  <Override PartName="/ppt/media/image7.png" ContentType="image/png"/>
  <Override PartName="/ppt/media/image15.wmf" ContentType="image/x-wmf"/>
  <Override PartName="/ppt/media/image35.wmf" ContentType="image/x-wmf"/>
  <Override PartName="/ppt/media/image6.png" ContentType="image/png"/>
  <Override PartName="/ppt/media/image14.wmf" ContentType="image/x-wmf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52D4-7BE4-4EE1-BA88-67E7AEAA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FD6C-EF8C-4753-AE72-F6AFCE3C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5FD1-5756-4468-A420-F4D98026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48DA-6E2A-4BF3-B55E-B27305BE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59CE-55FB-4B6D-AF3B-3780E982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B66A-126A-4C89-BC6E-6D0DD6D5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853F-449F-4D16-BC80-A4A2E8DC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33C4-AA8D-4265-AA5D-1E2D6E92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2855-2B68-41B9-B96E-D3451EF6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EF47-C0EF-46F5-9E6F-BFC57ADC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2E6E-B8BE-4D46-82D1-65FA14F6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2A71-1CDD-4B85-82E0-4F7D00A2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AFCC-6142-405D-A2B5-D27D8322F2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c8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7640" y="5493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47640" y="5493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776240" y="3341520"/>
            <a:ext cx="1749600" cy="271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820960" y="4497480"/>
            <a:ext cx="2529000" cy="1779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1452600" y="4313160"/>
            <a:ext cx="1504800" cy="2000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23880" y="5483160"/>
            <a:ext cx="677880" cy="847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995560" y="4405320"/>
            <a:ext cx="615960" cy="208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3643200" y="4299120"/>
            <a:ext cx="689040" cy="287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4764240" y="3665520"/>
            <a:ext cx="506160" cy="901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4221000" y="2852640"/>
            <a:ext cx="543240" cy="1730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7088040" y="2549520"/>
            <a:ext cx="4462560" cy="1120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9121680" y="5518080"/>
            <a:ext cx="2467080" cy="852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438960" y="838080"/>
            <a:ext cx="51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乐办公  幸福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37520" y="1555920"/>
            <a:ext cx="33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届</a:t>
            </a: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大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43200000">
                                      <p:cBhvr>
                                        <p:cTn id="5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5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43200000">
                                      <p:cBhvr>
                                        <p:cTn id="5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43200000">
                                      <p:cBhvr>
                                        <p:cTn id="5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43200000">
                                      <p:cBhvr>
                                        <p:cTn id="6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-7920" y="6121440"/>
            <a:ext cx="12223800" cy="73656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58920" y="-22320"/>
            <a:ext cx="10277280" cy="4129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55640" y="3987720"/>
            <a:ext cx="1514520" cy="2105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606840" y="5626080"/>
            <a:ext cx="533520" cy="466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522680" y="5749920"/>
            <a:ext cx="876240" cy="343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50880" y="4826160"/>
            <a:ext cx="714240" cy="1266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2065320" y="2505240"/>
            <a:ext cx="69552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7527960" y="614520"/>
            <a:ext cx="3752640" cy="1085760"/>
            <a:chOff x="7527960" y="614520"/>
            <a:chExt cx="3752640" cy="1085760"/>
          </a:xfrm>
        </p:grpSpPr>
        <p:pic>
          <p:nvPicPr>
            <p:cNvPr id="64" name="" descr=""/>
            <p:cNvPicPr/>
            <p:nvPr/>
          </p:nvPicPr>
          <p:blipFill>
            <a:blip r:embed="rId7"/>
            <a:stretch/>
          </p:blipFill>
          <p:spPr>
            <a:xfrm>
              <a:off x="7527960" y="614520"/>
              <a:ext cx="375264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680960" y="794520"/>
              <a:ext cx="343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快乐办公、幸福生活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727600" y="2205000"/>
            <a:ext cx="3753000" cy="1085760"/>
            <a:chOff x="5727600" y="2205000"/>
            <a:chExt cx="3753000" cy="1085760"/>
          </a:xfrm>
        </p:grpSpPr>
        <p:pic>
          <p:nvPicPr>
            <p:cNvPr id="67" name="" descr=""/>
            <p:cNvPicPr/>
            <p:nvPr/>
          </p:nvPicPr>
          <p:blipFill>
            <a:blip r:embed="rId8"/>
            <a:stretch/>
          </p:blipFill>
          <p:spPr>
            <a:xfrm>
              <a:off x="5727600" y="2205000"/>
              <a:ext cx="375300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951520" y="2390760"/>
              <a:ext cx="343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快乐工作决于心态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711600" y="3854520"/>
            <a:ext cx="3753000" cy="1085760"/>
            <a:chOff x="3711600" y="3854520"/>
            <a:chExt cx="3753000" cy="1085760"/>
          </a:xfrm>
        </p:grpSpPr>
        <p:pic>
          <p:nvPicPr>
            <p:cNvPr id="70" name="" descr=""/>
            <p:cNvPicPr/>
            <p:nvPr/>
          </p:nvPicPr>
          <p:blipFill>
            <a:blip r:embed="rId9"/>
            <a:stretch/>
          </p:blipFill>
          <p:spPr>
            <a:xfrm>
              <a:off x="3711600" y="3854520"/>
              <a:ext cx="375300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910320" y="4052520"/>
              <a:ext cx="343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怎样才能快乐的工作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"/>
                            </p:stCondLst>
                            <p:childTnLst>
                              <p:par>
                                <p:cTn id="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1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401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401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7920" y="2886120"/>
            <a:ext cx="12198240" cy="158256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279520" y="1197000"/>
            <a:ext cx="6229440" cy="1660320"/>
            <a:chOff x="2279520" y="1197000"/>
            <a:chExt cx="6229440" cy="16603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2279520" y="1998360"/>
              <a:ext cx="4856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3234960" y="2016360"/>
              <a:ext cx="771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4386240" y="1197000"/>
              <a:ext cx="1276200" cy="16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4"/>
            <a:stretch/>
          </p:blipFill>
          <p:spPr>
            <a:xfrm>
              <a:off x="5087520" y="2646360"/>
              <a:ext cx="55224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5"/>
            <a:stretch/>
          </p:blipFill>
          <p:spPr>
            <a:xfrm>
              <a:off x="5843160" y="2264400"/>
              <a:ext cx="35244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6"/>
            <a:stretch/>
          </p:blipFill>
          <p:spPr>
            <a:xfrm>
              <a:off x="6651000" y="1807200"/>
              <a:ext cx="1028520" cy="10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7"/>
            <a:stretch/>
          </p:blipFill>
          <p:spPr>
            <a:xfrm>
              <a:off x="8147160" y="2552760"/>
              <a:ext cx="361800" cy="30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8871120" y="1922400"/>
            <a:ext cx="609480" cy="933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7175520" y="1281240"/>
            <a:ext cx="1838160" cy="666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33760" y="338940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怎样才能快乐的工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7920" y="-9360"/>
            <a:ext cx="12200040" cy="72864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7920" y="6705720"/>
            <a:ext cx="12200040" cy="17928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706040" y="5830920"/>
            <a:ext cx="943200" cy="838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20560" y="395280"/>
            <a:ext cx="5848560" cy="647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20760" y="318960"/>
            <a:ext cx="399960" cy="400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90560" y="50328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怎样才能快乐的工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16120" y="1511280"/>
            <a:ext cx="10393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尔基曾经说过：“工作快乐，人生便是天堂；工作痛苦，人生便是地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现实生活中，也许选择什么样的工作会身不由己，但是我们却可以通过改变心态来面对挑战。世界上没有不好的工作，让我们对工作产生不满的是不平衡的心态。因此，快乐工作的关键取决于心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工作中遇到困惑时给自己三个选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A</a:t>
            </a:r>
            <a:r>
              <a:rPr b="1" lang="zh-CN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、不能改变环境就适应环境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B</a:t>
            </a:r>
            <a:r>
              <a:rPr b="1" lang="zh-CN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、不能改变别人就改变自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C</a:t>
            </a:r>
            <a:r>
              <a:rPr b="1" lang="zh-CN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、不能改变事情就改变对事情的态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摆正你自己的位置，端正你的态度，你的工作自然就会变得轻松容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25440" y="2060640"/>
            <a:ext cx="10966680" cy="3333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-7920" y="-9360"/>
            <a:ext cx="12200040" cy="72864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0706040" y="5830920"/>
            <a:ext cx="943200" cy="838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20560" y="395280"/>
            <a:ext cx="5848560" cy="647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-7920" y="6705720"/>
            <a:ext cx="12198240" cy="17928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20760" y="318960"/>
            <a:ext cx="399960" cy="400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90560" y="50328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怎样才能快乐的工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587760" y="2637000"/>
            <a:ext cx="488628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c8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41680" y="2801880"/>
            <a:ext cx="3238560" cy="771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5T17:09:59Z</dcterms:created>
  <dc:creator>Administrator</dc:creator>
  <dc:description/>
  <dc:language>en-US</dc:language>
  <cp:lastModifiedBy>微软用户</cp:lastModifiedBy>
  <dcterms:modified xsi:type="dcterms:W3CDTF">2014-08-22T06:48:58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64</vt:lpwstr>
  </property>
</Properties>
</file>